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16F-16AE-4F2E-A724-ABC41715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FC4-CDE7-46D4-B55C-EB9C381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B6C-DAC4-4C2E-BD3A-78DD5481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105-2FCE-4103-A290-E85CDF56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4C0-67A3-4FF2-8BA5-B2D815E3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331-808D-4570-B1DB-9835B184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CBD-A2B8-4150-A332-15930BC2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604-BF71-48F7-B903-CFD6B09A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505-89FE-4C31-AA54-04F90F02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CE3-1C2A-4390-81E2-22EA7B9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345-9311-4AEF-A1C3-1F6CB94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2B9-0760-419C-A36B-CC2307B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2CF9-B0B9-438F-B30B-9702E43FED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IECT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roi, conducatori si evenimente din epoca medievala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5909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urata: 5 ore  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 vom fac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Vom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  cu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oasca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cateva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personaje istorice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din epoca mediev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Vom realiza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brosur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i, postere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 in care sa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aratam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rolul pe care  l-a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u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 avut in istoria Romani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Vom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crea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scurte prezentari in care sa prezinte un fapt important din viata fiecarui dom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Vom realiza excursii in locurile in care acestea au trait sau sunt inmormant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MIRCEA CEL BATRA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5" descr="mirceacb.jpg"/>
          <p:cNvPicPr/>
          <p:nvPr/>
        </p:nvPicPr>
        <p:blipFill>
          <a:blip r:embed="rId1"/>
          <a:stretch/>
        </p:blipFill>
        <p:spPr>
          <a:xfrm>
            <a:off x="990720" y="1368360"/>
            <a:ext cx="30477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4191120" y="24382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nitor in Tara Romaneas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turc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e inmormantat la manastirea Coz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a mai renumita batalie a avut-o la Rov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LAD TE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Content Placeholder 4" descr="dracula.jpg"/>
          <p:cNvPicPr/>
          <p:nvPr/>
        </p:nvPicPr>
        <p:blipFill>
          <a:blip r:embed="rId1"/>
          <a:stretch/>
        </p:blipFill>
        <p:spPr>
          <a:xfrm>
            <a:off x="228600" y="1371600"/>
            <a:ext cx="3370320" cy="458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657600" y="1676160"/>
            <a:ext cx="5184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nitor in Tara Romaneas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domn care a pedepsit crud nelegiuirile prin tragerea in te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mas faimos prin atacul de noapte in tabara turceasca de la Targov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ANCU DE HUNEDOA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evod al Transilvan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nzestrat armata cu Tun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rtat lupte antiotom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e inmormantat in Alba Iulia, in catedrala cato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Content Placeholder 8" descr="IANCUDE HUN.jpg"/>
          <p:cNvPicPr/>
          <p:nvPr/>
        </p:nvPicPr>
        <p:blipFill>
          <a:blip r:embed="rId1"/>
          <a:stretch/>
        </p:blipFill>
        <p:spPr>
          <a:xfrm>
            <a:off x="533520" y="1330200"/>
            <a:ext cx="33526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6" descr="STEFAN.jpg"/>
          <p:cNvPicPr/>
          <p:nvPr/>
        </p:nvPicPr>
        <p:blipFill>
          <a:blip r:embed="rId1"/>
          <a:stretch/>
        </p:blipFill>
        <p:spPr>
          <a:xfrm>
            <a:off x="436680" y="762120"/>
            <a:ext cx="2963880" cy="3962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3352680" y="167652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FAN CEL M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nitor al Moldov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n crestin, a construit foarte multe manasti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ungurii, polonii, cu turcii si tatar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8" descr="stefancm.jpg"/>
          <p:cNvPicPr/>
          <p:nvPr/>
        </p:nvPicPr>
        <p:blipFill>
          <a:blip r:embed="rId2"/>
          <a:stretch/>
        </p:blipFill>
        <p:spPr>
          <a:xfrm>
            <a:off x="5410080" y="3733920"/>
            <a:ext cx="14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IHAI"/>
          <p:cNvPicPr/>
          <p:nvPr/>
        </p:nvPicPr>
        <p:blipFill>
          <a:blip r:embed="rId1"/>
          <a:stretch/>
        </p:blipFill>
        <p:spPr>
          <a:xfrm>
            <a:off x="1600200" y="457200"/>
            <a:ext cx="2014560" cy="219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733920" y="1219320"/>
            <a:ext cx="4572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HAI VITEAZ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st un mare conducator roman si poate fi considerat un erou deoarece a reusit pentru prima data sa uneasca cele trei tari romanesti : Tara Romaneasca, Moldova si Transilvania in 1600 chiar daca doar pentru un 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turc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505320" y="5791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ursie Mormantul de la Tur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8" descr="DSC03182.JPG"/>
          <p:cNvPicPr/>
          <p:nvPr/>
        </p:nvPicPr>
        <p:blipFill>
          <a:blip r:embed="rId2"/>
          <a:stretch/>
        </p:blipFill>
        <p:spPr>
          <a:xfrm>
            <a:off x="5486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3:03Z</dcterms:created>
  <dc:creator>rodinaloredana</dc:creator>
  <dc:description/>
  <dc:language>en-US</dc:language>
  <cp:lastModifiedBy>Bugs Bunny</cp:lastModifiedBy>
  <dcterms:modified xsi:type="dcterms:W3CDTF">2010-10-03T18:11:24Z</dcterms:modified>
  <cp:revision>32</cp:revision>
  <dc:subject/>
  <dc:title>MIHAI VITEAZU</dc:title>
</cp:coreProperties>
</file>